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783B-8B0F-4C97-A3BC-FE104634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7D71-8D86-4E5C-A24E-B709FBBE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9532-A60B-4D47-82C2-9F0DD1E5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33C5-0E52-4163-8F74-FC32ECF1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2D2B-F9D3-445A-A785-868AE159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CDF7-D4F7-4E78-8E6B-BC2DD1B8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BF39-638E-4921-8BC4-0E9C49DB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4C41-ECED-4639-88BE-413E4B69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B29E-5D1E-4181-B488-D53B69AF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4329-E56F-4423-A94A-288B3860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B1ED-7AB8-4ADE-9D02-6B21511D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9C96-B174-4BB4-9A06-7B106838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4107-E7EE-45D7-9D64-2B597EF9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5588-062F-4A72-B665-29C06906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F79D-BA86-48BF-9FEC-CDDAD865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5D71-D560-4E83-A195-10B55BE0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44FF-351E-4A19-B3B7-4881D96D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E5E9-B86A-40AD-B16E-B9DE40DA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3ACD-EE5C-40D8-B3F2-6D54D25B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6A0E-716F-449F-9AD8-CF2BD96F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CCB2-7C2F-4636-933D-67675F71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C8D5-4601-4B48-A2B8-7CDF7897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DF77-0F34-42B5-A719-B9682716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7B3B-096E-4846-ACF9-A844C7DA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EFEE-0E41-4278-A12B-081CC309692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EF23-8379-457D-9C86-1DAA87729B2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712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onstantia"/>
              </a:rPr>
              <a:t>TRUNCUS CEREB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2071800"/>
            <a:ext cx="896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nstantia"/>
              </a:rPr>
              <a:t>MEDULLA OBLONGATA (</a:t>
            </a:r>
            <a:r>
              <a:rPr b="0" lang="sr-CS" sz="3000" spc="-1" strike="noStrike">
                <a:solidFill>
                  <a:srgbClr val="000000"/>
                </a:solidFill>
                <a:latin typeface="Constantia"/>
              </a:rPr>
              <a:t>ПРОДУЖЕНА МОЖДИНА</a:t>
            </a:r>
            <a:r>
              <a:rPr b="0" lang="sr-Latn-CS" sz="3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nstantia"/>
              </a:rPr>
              <a:t>PONS (</a:t>
            </a:r>
            <a:r>
              <a:rPr b="0" lang="sr-CS" sz="3000" spc="-1" strike="noStrike">
                <a:solidFill>
                  <a:srgbClr val="000000"/>
                </a:solidFill>
                <a:latin typeface="Constantia"/>
              </a:rPr>
              <a:t>МОСТ</a:t>
            </a:r>
            <a:r>
              <a:rPr b="0" lang="sr-Latn-CS" sz="3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nstantia"/>
              </a:rPr>
              <a:t>MESENCEPHALON (</a:t>
            </a:r>
            <a:r>
              <a:rPr b="0" lang="sr-CS" sz="3000" spc="-1" strike="noStrike">
                <a:solidFill>
                  <a:srgbClr val="000000"/>
                </a:solidFill>
                <a:latin typeface="Constantia"/>
              </a:rPr>
              <a:t>СРЕДЊИ МОЗА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nstantia"/>
              </a:rPr>
              <a:t>(ISTHMUS ROMBENCEPHAL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0" y="10717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000000"/>
                </a:solidFill>
                <a:uFillTx/>
                <a:latin typeface="Constantia"/>
              </a:rPr>
              <a:t>P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6786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ГРАНИЦЕ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ВЕНТРАЛНА СТРАНА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ДОЛЕ (према medulli oblongati)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sulcus bulboponti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(излазе VI,VII, VIIbis и VIII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кр. живац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ГОРЕ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(према мезенцефалону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- f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ossa prepo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БОЧ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линија која повезује место изласка N.V са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местом изласка N.V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7788" t="6855" r="38165" b="38194"/>
          <a:stretch/>
        </p:blipFill>
        <p:spPr>
          <a:xfrm>
            <a:off x="4648320" y="2500200"/>
            <a:ext cx="432252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0" y="10717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000000"/>
                </a:solidFill>
                <a:uFillTx/>
                <a:latin typeface="Constantia"/>
              </a:rPr>
              <a:t>P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6786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ВЕНТРАЛНА СТРАНА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Sulcus basilaris(a.basilar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Eminentio pyramidalis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(влакна пирамидалног пу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Fibrae pontis transvers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Peduncululi cerebelares me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d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rcRect l="7788" t="6855" r="38165" b="38194"/>
          <a:stretch/>
        </p:blipFill>
        <p:spPr>
          <a:xfrm>
            <a:off x="4648320" y="2500200"/>
            <a:ext cx="432252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rcRect l="8711" t="6260" r="38312" b="37549"/>
          <a:stretch/>
        </p:blipFill>
        <p:spPr>
          <a:xfrm>
            <a:off x="3976560" y="2214720"/>
            <a:ext cx="5167440" cy="41097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0" y="10717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000000"/>
                </a:solidFill>
                <a:uFillTx/>
                <a:latin typeface="Constantia"/>
              </a:rPr>
              <a:t>P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785880"/>
            <a:ext cx="521496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ГРАНИЦЕ: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ДОРЗАЛНА СТРАНА: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ДОЛЕ(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према medulli oblonga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striae medul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ГОРЕ(према мезенцефалон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задња ивица laminae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 quadrigemin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rcRect l="8711" t="6260" r="38312" b="37549"/>
          <a:stretch/>
        </p:blipFill>
        <p:spPr>
          <a:xfrm>
            <a:off x="3976560" y="1714680"/>
            <a:ext cx="5167440" cy="41097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0" y="10717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000000"/>
                </a:solidFill>
                <a:uFillTx/>
                <a:latin typeface="Constantia"/>
              </a:rPr>
              <a:t>P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5643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ДОРЗАЛНА СТРАНА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Pars pontina fossa rhomboide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Stiae medul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Pedunculi cerebellares sup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Colliculus facialis</a:t>
            </a: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једро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н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.abducen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Eminentio medi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Sulcus limit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Fovea superior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моторно једро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 N.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Locus coeruleus (nucleus coerule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- богато пигментом мелани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- норадреналин (највећаконцентрација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area vestibularis s.acustica*</a:t>
            </a: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једра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 N.VIII</a:t>
            </a: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714920" y="1142640"/>
            <a:ext cx="42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0000"/>
                </a:solidFill>
                <a:uFillTx/>
                <a:latin typeface="Arial"/>
              </a:rPr>
              <a:t>Mesencephal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-360" y="999720"/>
            <a:ext cx="664380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Лоциран између diencephalon-а и pons-а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На вентралној страни садржи два</a:t>
            </a:r>
            <a:br>
              <a:rPr sz="2000"/>
            </a:br>
            <a:r>
              <a:rPr b="0" lang="sr-Latn-CS" sz="2000" spc="-1" strike="noStrike">
                <a:solidFill>
                  <a:srgbClr val="0070c0"/>
                </a:solidFill>
                <a:latin typeface="Constantia"/>
              </a:rPr>
              <a:t>pedunculs cerebellaris-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Нисходна влана која иду ка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cerebellum-у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    преко понс-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Нисходни пирамидални п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-  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Кроз средњи мозак пролази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Latn-CS" sz="2000" spc="-1" strike="noStrike">
                <a:solidFill>
                  <a:srgbClr val="0070c0"/>
                </a:solidFill>
                <a:latin typeface="Constantia"/>
              </a:rPr>
              <a:t>aqueductus cerebri 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који повезује 3. и 4.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   мождану комо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Кров aqueductusa cerebri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i="1" lang="en-US" sz="2000" spc="-1" strike="noStrike">
                <a:solidFill>
                  <a:srgbClr val="0070c0"/>
                </a:solidFill>
                <a:latin typeface="Constantia"/>
              </a:rPr>
              <a:t>tectum</a:t>
            </a:r>
            <a:r>
              <a:rPr b="0" lang="en-US" sz="2000" spc="-1" strike="noStrike">
                <a:solidFill>
                  <a:srgbClr val="0070c0"/>
                </a:solidFill>
                <a:latin typeface="Constanti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садржи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000" spc="-1" strike="noStrike">
                <a:solidFill>
                  <a:srgbClr val="0070c0"/>
                </a:solidFill>
                <a:latin typeface="Constantia"/>
              </a:rPr>
              <a:t>corpora</a:t>
            </a:r>
            <a:r>
              <a:rPr b="0" lang="en-US" sz="2000" spc="-1" strike="noStrike">
                <a:solidFill>
                  <a:srgbClr val="0070c0"/>
                </a:solidFill>
                <a:latin typeface="Constantia"/>
              </a:rPr>
              <a:t> quadrige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70c0"/>
              </a:buClr>
              <a:buFont typeface="Constant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70c0"/>
                </a:solidFill>
                <a:latin typeface="Constantia"/>
              </a:rPr>
              <a:t>Colliculi superiores 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(2)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који контролишу рефлексне покрете 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очију, главе и врата, као одговор на визуелни стимул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70c0"/>
              </a:buClr>
              <a:buFont typeface="Constant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70c0"/>
                </a:solidFill>
                <a:latin typeface="Constantia"/>
              </a:rPr>
              <a:t>Colliculi inferiores 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(2) </a:t>
            </a:r>
            <a:br>
              <a:rPr sz="1800"/>
            </a:b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који контролишу рефлексне покрете очију, главе и врата, као одговор на аудитивни стимул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sol00672"/>
          <p:cNvPicPr/>
          <p:nvPr/>
        </p:nvPicPr>
        <p:blipFill>
          <a:blip r:embed="rId1"/>
          <a:stretch/>
        </p:blipFill>
        <p:spPr>
          <a:xfrm>
            <a:off x="5162400" y="2071800"/>
            <a:ext cx="39816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6" descr="http://upload.wikimedia.org/wikipedia/commons/3/33/Human_brain_midsagittal_cut_description.JPG"/>
          <p:cNvPicPr/>
          <p:nvPr/>
        </p:nvPicPr>
        <p:blipFill>
          <a:blip r:embed="rId1"/>
          <a:srcRect l="5047" t="0" r="0" b="0"/>
          <a:stretch/>
        </p:blipFill>
        <p:spPr>
          <a:xfrm>
            <a:off x="4071960" y="1928880"/>
            <a:ext cx="5072040" cy="3703680"/>
          </a:xfrm>
          <a:prstGeom prst="rect">
            <a:avLst/>
          </a:prstGeom>
          <a:ln w="0">
            <a:noFill/>
          </a:ln>
        </p:spPr>
      </p:pic>
      <p:cxnSp>
        <p:nvCxnSpPr>
          <p:cNvPr id="191" name="Straight Arrow Connector 7"/>
          <p:cNvCxnSpPr/>
          <p:nvPr/>
        </p:nvCxnSpPr>
        <p:spPr>
          <a:xfrm flipH="1" flipV="1">
            <a:off x="5214240" y="5142960"/>
            <a:ext cx="143640" cy="857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2" name="Straight Arrow Connector 12"/>
          <p:cNvCxnSpPr/>
          <p:nvPr/>
        </p:nvCxnSpPr>
        <p:spPr>
          <a:xfrm flipH="1" flipV="1">
            <a:off x="5928480" y="4785840"/>
            <a:ext cx="500760" cy="1572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3" name="Straight Arrow Connector 14"/>
          <p:cNvCxnSpPr/>
          <p:nvPr/>
        </p:nvCxnSpPr>
        <p:spPr>
          <a:xfrm flipH="1" flipV="1">
            <a:off x="6285960" y="4214160"/>
            <a:ext cx="857880" cy="178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TextBox 16"/>
          <p:cNvSpPr/>
          <p:nvPr/>
        </p:nvSpPr>
        <p:spPr>
          <a:xfrm>
            <a:off x="4069440" y="60721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edulla oblong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7"/>
          <p:cNvSpPr/>
          <p:nvPr/>
        </p:nvSpPr>
        <p:spPr>
          <a:xfrm>
            <a:off x="6267600" y="62866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9"/>
          <p:cNvSpPr/>
          <p:nvPr/>
        </p:nvSpPr>
        <p:spPr>
          <a:xfrm>
            <a:off x="6643080" y="600084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esencepha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928440"/>
            <a:ext cx="419112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ГРАНИЦА: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ВЕНТРАЛНА СТРА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доле: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fossa prepo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горе: раван која пролази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 кроз 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corpora mammilari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ДОРЗАЛНА СТРА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горе: предња ивица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laminae quadrige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доле: задња ивица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laminae quadrige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72000" y="100008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000000"/>
                </a:solidFill>
                <a:uFillTx/>
                <a:latin typeface="Constantia"/>
              </a:rPr>
              <a:t>Mesencepha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360" y="1571760"/>
            <a:ext cx="56437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ДЕЛОВИ 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MESENCEFAL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nstantia"/>
              </a:rPr>
              <a:t>1.TECTUM  MESENCEPHALI – </a:t>
            </a:r>
            <a:r>
              <a:rPr b="0" lang="sr-CS" sz="2200" spc="-1" strike="noStrike">
                <a:solidFill>
                  <a:srgbClr val="000000"/>
                </a:solidFill>
                <a:latin typeface="Constantia"/>
              </a:rPr>
              <a:t>кров/ кровна плоча (</a:t>
            </a:r>
            <a:r>
              <a:rPr b="0" lang="sr-Latn-CS" sz="2200" spc="-1" strike="noStrike">
                <a:solidFill>
                  <a:srgbClr val="000000"/>
                </a:solidFill>
                <a:latin typeface="Constantia"/>
              </a:rPr>
              <a:t>laminaquadrigemina</a:t>
            </a:r>
            <a:r>
              <a:rPr b="0" lang="sr-C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nstantia"/>
              </a:rPr>
              <a:t>2.PEDUNCULI CEREBRI – </a:t>
            </a:r>
            <a:r>
              <a:rPr b="0" lang="sr-CS" sz="2200" spc="-1" strike="noStrike">
                <a:solidFill>
                  <a:srgbClr val="000000"/>
                </a:solidFill>
                <a:latin typeface="Constantia"/>
              </a:rPr>
              <a:t>мождане ножиц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nstantia"/>
              </a:rPr>
              <a:t>a)TEGMENTUM – </a:t>
            </a:r>
            <a:r>
              <a:rPr b="0" lang="sr-CS" sz="2200" spc="-1" strike="noStrike">
                <a:solidFill>
                  <a:srgbClr val="000000"/>
                </a:solidFill>
                <a:latin typeface="Constantia"/>
              </a:rPr>
              <a:t>мождана капи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nstantia"/>
              </a:rPr>
              <a:t>б</a:t>
            </a:r>
            <a:r>
              <a:rPr b="0" lang="sr-Latn-CS" sz="2200" spc="-1" strike="noStrike">
                <a:solidFill>
                  <a:srgbClr val="000000"/>
                </a:solidFill>
                <a:latin typeface="Constantia"/>
              </a:rPr>
              <a:t>)CRURA CEREB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nstantia"/>
              </a:rPr>
              <a:t>3.AQUEDUCTUS MESENCEPHALI –</a:t>
            </a:r>
            <a:r>
              <a:rPr b="0" lang="sr-CS" sz="2200" spc="-1" strike="noStrike">
                <a:solidFill>
                  <a:srgbClr val="000000"/>
                </a:solidFill>
                <a:latin typeface="Constantia"/>
              </a:rPr>
              <a:t>централна шупљ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0" y="100008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000000"/>
                </a:solidFill>
                <a:uFillTx/>
                <a:latin typeface="Constantia"/>
              </a:rPr>
              <a:t>Mesencepha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0" descr=""/>
          <p:cNvPicPr/>
          <p:nvPr/>
        </p:nvPicPr>
        <p:blipFill>
          <a:blip r:embed="rId1"/>
          <a:srcRect l="19836" t="23017" r="48265" b="16138"/>
          <a:stretch/>
        </p:blipFill>
        <p:spPr>
          <a:xfrm>
            <a:off x="5643720" y="2071800"/>
            <a:ext cx="350028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untitled"/>
          <p:cNvPicPr/>
          <p:nvPr/>
        </p:nvPicPr>
        <p:blipFill>
          <a:blip r:embed="rId1"/>
          <a:stretch/>
        </p:blipFill>
        <p:spPr>
          <a:xfrm>
            <a:off x="2000160" y="74520"/>
            <a:ext cx="5430960" cy="67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85560" y="928440"/>
            <a:ext cx="63579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nstantia"/>
              </a:rPr>
              <a:t>ЈЕДРА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МО</a:t>
            </a:r>
            <a:r>
              <a:rPr b="1" lang="sr-Latn-CS" sz="2400" spc="-1" strike="noStrike">
                <a:solidFill>
                  <a:srgbClr val="000000"/>
                </a:solidFill>
                <a:latin typeface="Constantia"/>
              </a:rPr>
              <a:t>ЖДАНИХ ЖИВА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360" y="1550880"/>
            <a:ext cx="5435640" cy="53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N. HYPOGLOSSUS (XI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- nc. nervi hypoglossi (OS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N. ACCESSORIUS (X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- nc. ambiguus (PV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- nc. spinalis n. accessorii (PV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N. VAGUS 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- nc. ambiguus (PV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- nc. dorsalis n. vagi (OVM – parasim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- nc. spinalis n. trigemini (O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- nc. solitarius (PVS i OV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N. GLOSSOPHARYNGEUS (I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- nc. ambiguus (PV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- nc. salivatorius inferior (OVM – parasim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- nc. spinalis n. trigemini (O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- nc. solitarius (PVS i OV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88000" y="1549440"/>
            <a:ext cx="435600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N. VESTIBULOCOCHLEARIS (VII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a) N. Cochlea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cochlearis dorsalis (P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cochlearis ventralis (P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b) N. Vestibula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vestibularis superior (P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vestibularis lateralis (P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vestibularis inferior (P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vestibularis medialis (P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N. FACIALIS (VI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nervi facialis (PV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salivatorius superior (OV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spinalis n. trigemini (O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solitarius (PVS i OV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N. ABDUCENS (V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nervi abducentis (OS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2960" y="9284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nstantia"/>
              </a:rPr>
              <a:t>ЈЕДРА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МО</a:t>
            </a:r>
            <a:r>
              <a:rPr b="1" lang="sr-Latn-CS" sz="2400" spc="-1" strike="noStrike">
                <a:solidFill>
                  <a:srgbClr val="000000"/>
                </a:solidFill>
                <a:latin typeface="Constantia"/>
              </a:rPr>
              <a:t>ЖДАНИХ ЖИВА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9144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N. 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TRIGEMINUS (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sensorius superior s. nc. pontinus n. trigeminalis (O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spinalis n. trigemini (O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tractus mesencephalici n. trigeminalis (O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motorius n. trigeminalis (PV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N. TROCHLEARIS (I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nervi trochlearis (OS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N. OCULOMOTORIUS (II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nervi oculomotorii (OS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oculomotorius accessorius s. autonomicus Edinger-Westphal (OVM –  </a:t>
            </a:r>
            <a:r>
              <a:rPr b="1" lang="sr-CS" sz="1600" spc="-1" strike="noStrike">
                <a:solidFill>
                  <a:srgbClr val="000000"/>
                </a:solidFill>
                <a:latin typeface="Constantia"/>
              </a:rPr>
              <a:t>парасимп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rcRect l="7936" t="0" r="37537" b="37746"/>
          <a:stretch/>
        </p:blipFill>
        <p:spPr>
          <a:xfrm>
            <a:off x="468360" y="54000"/>
            <a:ext cx="793908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Untitled-3"/>
          <p:cNvPicPr/>
          <p:nvPr/>
        </p:nvPicPr>
        <p:blipFill>
          <a:blip r:embed="rId1">
            <a:lum contrast="24000"/>
          </a:blip>
          <a:srcRect l="13690" t="17883" r="7317" b="23878"/>
          <a:stretch/>
        </p:blipFill>
        <p:spPr>
          <a:xfrm>
            <a:off x="1619280" y="260280"/>
            <a:ext cx="60357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РЕТИКУЛАРНА ФОРМАЦИЈА МО</a:t>
            </a:r>
            <a:r>
              <a:rPr b="1" lang="sr-Latn-CS" sz="2400" spc="-1" strike="noStrike">
                <a:solidFill>
                  <a:srgbClr val="000000"/>
                </a:solidFill>
                <a:latin typeface="Constantia"/>
              </a:rPr>
              <a:t>ЖДАНОГ СТАБ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2071800"/>
            <a:ext cx="91440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Заузима централни део можданог стабла (каудално се наставља у ламина VII кичмене мождине, а рострално, преко субталамуса, доллази до интраламинарних једара таламу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Регули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ше будно стање, контролише моторне, а утиче на многе висцералне функције, јер се у њој налазе неки витални центри (за дисање, рад срца, гутањ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10000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РЕТИКУЛАРНА ФОРМАЦИЈА МО</a:t>
            </a:r>
            <a:r>
              <a:rPr b="1" lang="sr-Latn-CS" sz="2400" spc="-1" strike="noStrike">
                <a:solidFill>
                  <a:srgbClr val="000000"/>
                </a:solidFill>
                <a:latin typeface="Constantia"/>
              </a:rPr>
              <a:t>ЖДАНОГ СТАБ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57120" y="17859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nstantia"/>
              </a:rPr>
              <a:t>МЕДИЈАЛНА ЗОНА </a:t>
            </a:r>
            <a:r>
              <a:rPr b="1" lang="sr-Latn-CS" sz="2000" spc="-1" strike="noStrike">
                <a:solidFill>
                  <a:srgbClr val="000000"/>
                </a:solidFill>
                <a:latin typeface="Constantia"/>
              </a:rPr>
              <a:t>(ZONA MEDIA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sr-CS" sz="1600" spc="-1" strike="noStrike">
                <a:solidFill>
                  <a:srgbClr val="000000"/>
                </a:solidFill>
                <a:latin typeface="Constantia"/>
              </a:rPr>
              <a:t>Магноцелуларна з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sr-Latn-CS" sz="2000" spc="-1" strike="noStrike">
                <a:solidFill>
                  <a:srgbClr val="000000"/>
                </a:solidFill>
                <a:latin typeface="Constantia"/>
              </a:rPr>
              <a:t>- nuclei raphes </a:t>
            </a:r>
            <a:r>
              <a:rPr b="0" lang="sr-Latn-CS" sz="1600" spc="-1" strike="noStrike">
                <a:solidFill>
                  <a:srgbClr val="000000"/>
                </a:solidFill>
                <a:latin typeface="Constantia"/>
              </a:rPr>
              <a:t>– леже уз саму средишну линиј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sr-CS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Constantia"/>
              </a:rPr>
              <a:t>- највећа конц. серотонина у целом ЦНС – у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sr-Latn-CS" sz="2000" spc="-1" strike="noStrike">
                <a:solidFill>
                  <a:srgbClr val="000000"/>
                </a:solidFill>
                <a:latin typeface="Constantia"/>
              </a:rPr>
              <a:t>- nuclei paramedi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lang="sr-Latn-C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Constantia"/>
              </a:rPr>
              <a:t>ИНТЕРМЕДИЈЕРНА З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Latn-CS" sz="1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sr-CS" sz="1600" spc="-1" strike="noStrike">
                <a:solidFill>
                  <a:srgbClr val="000000"/>
                </a:solidFill>
                <a:latin typeface="Constantia"/>
              </a:rPr>
              <a:t>Гигантоцелуларна или магноцелуларна з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onstantia"/>
              </a:rPr>
              <a:t>ЛАТЕРАЛНА З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Constantia"/>
              </a:rPr>
              <a:t>Парвоцелуларна з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onstantia"/>
              </a:rPr>
              <a:t>Латерална зона има рецептивну или асоцијативну улогу, док је интермедијерна зона ефекторни део ретикуларне форм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rcRect l="21636" t="13567" r="539" b="4660"/>
          <a:stretch/>
        </p:blipFill>
        <p:spPr>
          <a:xfrm>
            <a:off x="0" y="0"/>
            <a:ext cx="4506840" cy="32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4" name="Picture 2" descr=""/>
          <p:cNvPicPr/>
          <p:nvPr/>
        </p:nvPicPr>
        <p:blipFill>
          <a:blip r:embed="rId2"/>
          <a:srcRect l="53731" t="27856" r="539" b="12635"/>
          <a:stretch/>
        </p:blipFill>
        <p:spPr>
          <a:xfrm>
            <a:off x="4497480" y="0"/>
            <a:ext cx="4646520" cy="327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5" name="Picture 2" descr=""/>
          <p:cNvPicPr/>
          <p:nvPr/>
        </p:nvPicPr>
        <p:blipFill>
          <a:blip r:embed="rId3"/>
          <a:srcRect l="719" t="28196" r="53462" b="5820"/>
          <a:stretch/>
        </p:blipFill>
        <p:spPr>
          <a:xfrm>
            <a:off x="2428920" y="3411360"/>
            <a:ext cx="4422600" cy="344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nstantia"/>
              </a:rPr>
              <a:t>РЕЛЕЈНА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nstantia"/>
              </a:rPr>
              <a:t>ЈЕДРА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МО</a:t>
            </a:r>
            <a:r>
              <a:rPr b="1" lang="sr-Latn-CS" sz="2800" spc="-1" strike="noStrike">
                <a:solidFill>
                  <a:srgbClr val="000000"/>
                </a:solidFill>
                <a:latin typeface="Constantia"/>
              </a:rPr>
              <a:t>ЖДАНОГ СТАБ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233208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Представљају добро ограничене групе неурона, које припадају једном неуронском систему (моторном, сензитивном, чулно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У овим једрима се потпуно или делимично прекидају влакна одговарајућег система и настављају се аксонима релејног једра, чиме се успоставља морфолошка и функционална цел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Спроводе и обрађују пристигле информа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Већина се налази у тегментуму можданог стабла. Једино се 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nuclei arcuati </a:t>
            </a: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(продужена мождина) и 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nuclei pontis </a:t>
            </a: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(понс), налазе у базалним деловима можданог стаб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28760" y="1357200"/>
            <a:ext cx="8229600" cy="52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nstantia"/>
              </a:rPr>
              <a:t>РЕЛЕЈНА ЈЕДРА ПРОДУЖЕНЕ МОЖД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uclei arcuat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  - </a:t>
            </a:r>
            <a:r>
              <a:rPr b="0" lang="sr-CS" sz="1600" spc="-1" strike="noStrike">
                <a:solidFill>
                  <a:srgbClr val="000000"/>
                </a:solidFill>
                <a:latin typeface="Constantia"/>
              </a:rPr>
              <a:t>моторни систем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gracilis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lang="sr-CS" sz="1600" spc="-1" strike="noStrike">
                <a:solidFill>
                  <a:srgbClr val="000000"/>
                </a:solidFill>
                <a:latin typeface="Constantia"/>
              </a:rPr>
              <a:t>сензитивни сист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cuneatus   - </a:t>
            </a:r>
            <a:r>
              <a:rPr b="0" lang="sr-CS" sz="1600" spc="-1" strike="noStrike">
                <a:solidFill>
                  <a:srgbClr val="000000"/>
                </a:solidFill>
                <a:latin typeface="Constantia"/>
              </a:rPr>
              <a:t>сензитивни сист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cuneatus accessorius - </a:t>
            </a:r>
            <a:r>
              <a:rPr b="0" lang="sr-CS" sz="1600" spc="-1" strike="noStrike">
                <a:solidFill>
                  <a:srgbClr val="000000"/>
                </a:solidFill>
                <a:latin typeface="Constantia"/>
              </a:rPr>
              <a:t>сензитивни сист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donji olivarni kompleks – </a:t>
            </a:r>
            <a:r>
              <a:rPr b="0" lang="sr-CS" sz="1600" spc="-1" strike="noStrike">
                <a:solidFill>
                  <a:srgbClr val="000000"/>
                </a:solidFill>
                <a:latin typeface="Constantia"/>
              </a:rPr>
              <a:t>моторни систем </a:t>
            </a:r>
            <a:r>
              <a:rPr b="0" lang="sr-Latn-CS" sz="1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sr-CS" sz="1600" spc="-1" strike="noStrike">
                <a:solidFill>
                  <a:srgbClr val="000000"/>
                </a:solidFill>
                <a:latin typeface="Constantia"/>
              </a:rPr>
              <a:t>прецизни покрети</a:t>
            </a:r>
            <a:r>
              <a:rPr b="0" lang="sr-Latn-CS" sz="1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3 </a:t>
            </a:r>
            <a:r>
              <a:rPr b="1" lang="sr-CS" sz="1600" spc="-1" strike="noStrike">
                <a:solidFill>
                  <a:srgbClr val="000000"/>
                </a:solidFill>
                <a:latin typeface="Constantia"/>
              </a:rPr>
              <a:t>мала перихипоглосна нерва 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sr-CS" sz="1600" spc="-1" strike="noStrike">
                <a:solidFill>
                  <a:srgbClr val="000000"/>
                </a:solidFill>
                <a:latin typeface="Constantia"/>
              </a:rPr>
              <a:t>учествују у регулацији покрета очију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ntercal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preoptic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Constantia"/>
              </a:rPr>
              <a:t>РЕЛЕЈНА ЈЕДРА ПОН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uclei pontis – </a:t>
            </a:r>
            <a:r>
              <a:rPr b="0" lang="sr-CS" sz="1600" spc="-1" strike="noStrike">
                <a:solidFill>
                  <a:srgbClr val="000000"/>
                </a:solidFill>
                <a:latin typeface="Constantia"/>
              </a:rPr>
              <a:t>моторни сист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livaris superior – </a:t>
            </a:r>
            <a:r>
              <a:rPr b="0" lang="sr-CS" sz="1600" spc="-1" strike="noStrike">
                <a:solidFill>
                  <a:srgbClr val="000000"/>
                </a:solidFill>
                <a:latin typeface="Constantia"/>
              </a:rPr>
              <a:t>у тегментуму понса</a:t>
            </a:r>
            <a:r>
              <a:rPr b="0" lang="sr-Latn-CS" sz="1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Constantia"/>
              </a:rPr>
              <a:t>припада аудитивном систе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uclei corporis trapezoidei</a:t>
            </a:r>
            <a:r>
              <a:rPr b="1" lang="sr-CS" sz="16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lang="sr-CS" sz="1600" spc="-1" strike="noStrike">
                <a:solidFill>
                  <a:srgbClr val="000000"/>
                </a:solidFill>
                <a:latin typeface="Constantia"/>
              </a:rPr>
              <a:t>у тегментуму понса</a:t>
            </a:r>
            <a:r>
              <a:rPr b="0" lang="sr-Latn-CS" sz="1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Constantia"/>
              </a:rPr>
              <a:t>припада аудитивном систе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uclei lemnisci lateralis - </a:t>
            </a:r>
            <a:r>
              <a:rPr b="0" lang="sr-CS" sz="1600" spc="-1" strike="noStrike">
                <a:solidFill>
                  <a:srgbClr val="000000"/>
                </a:solidFill>
                <a:latin typeface="Constantia"/>
              </a:rPr>
              <a:t>у тегментуму понса</a:t>
            </a:r>
            <a:r>
              <a:rPr b="0" lang="sr-Latn-CS" sz="1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Constantia"/>
              </a:rPr>
              <a:t>припада аудитивном систе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13840" y="1285920"/>
            <a:ext cx="871380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nstantia"/>
              </a:rPr>
              <a:t>РЕЛЕЈНА ЈЕДРА </a:t>
            </a:r>
            <a:r>
              <a:rPr b="1" lang="sr-Latn-CS" sz="2000" spc="-1" strike="noStrike">
                <a:solidFill>
                  <a:srgbClr val="000000"/>
                </a:solidFill>
                <a:latin typeface="Constantia"/>
              </a:rPr>
              <a:t>MESENCEPHAL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strata grisea colliculi superioris – </a:t>
            </a:r>
            <a:r>
              <a:rPr b="1" lang="sr-CS" sz="18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 tectum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-у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најважнији рефлексни</a:t>
            </a:r>
            <a:br>
              <a:rPr sz="1800"/>
            </a:b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        оптички цен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- nc. colliculi inferioris - </a:t>
            </a:r>
            <a:r>
              <a:rPr b="1" lang="sr-CS" sz="18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 tectum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-у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најважнији рефлексни акустички цен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- area pretectalis –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у претекталном подруч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- nc. tractus opt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- nc. sublentiformis 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укључено у рефлекс зенице на светл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- nc. pretectalis principalis 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укључено у рефлекс зенице на светл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- nc. olivaris pretectalis 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укључено у рефлекс зенице на светл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- nc. Interstitialis rostralis –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у периакведукталној сивој маси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помоћно</a:t>
            </a:r>
            <a:br>
              <a:rPr sz="1800"/>
            </a:b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            окуломоторно јед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- nc. Interstitialis Cajal -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у периакведукталној сивој маси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помоћно</a:t>
            </a:r>
            <a:br>
              <a:rPr sz="1800"/>
            </a:b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    окуломоторно јед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- nc. Darkshewitsch -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у периакведукталној сивој маси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помоћно</a:t>
            </a:r>
            <a:br>
              <a:rPr sz="1800"/>
            </a:b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окуломоторно јед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- substantia nigra –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у граничној зони између 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tegmentuma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 crus cereb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713880"/>
            <a:ext cx="376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Constantia"/>
              </a:rPr>
              <a:t>Truncus cerebri</a:t>
            </a:r>
            <a:br>
              <a:rPr sz="2800"/>
            </a:b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Constantia"/>
              </a:rPr>
              <a:t>(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onstantia"/>
              </a:rPr>
              <a:t>Мождано стабло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Constant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2142720"/>
            <a:ext cx="405144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Лоциран између кичмене мождине и великог моз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Кроз њега пролазе путеви који повезују више и ниже делове ЦНС-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Делови: 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pons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, medulla oblongata, mesencepha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Сваки је дужине око 2,5 цм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Микроскопски, сваки део се састоји од дубоких сивих маса, окружених путевима, тј. Сноповима беле масе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Садржи центре аутономног нервног система који регулишу виталне функције (рад срца, дисање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ttp://upload.wikimedia.org/wikipedia/commons/3/33/Human_brain_midsagittal_cut_description.JPG"/>
          <p:cNvPicPr/>
          <p:nvPr/>
        </p:nvPicPr>
        <p:blipFill>
          <a:blip r:embed="rId1"/>
          <a:stretch/>
        </p:blipFill>
        <p:spPr>
          <a:xfrm>
            <a:off x="3801960" y="1928880"/>
            <a:ext cx="5342040" cy="3703680"/>
          </a:xfrm>
          <a:prstGeom prst="rect">
            <a:avLst/>
          </a:prstGeom>
          <a:ln w="0">
            <a:noFill/>
          </a:ln>
        </p:spPr>
      </p:pic>
      <p:cxnSp>
        <p:nvCxnSpPr>
          <p:cNvPr id="129" name="Straight Arrow Connector 7"/>
          <p:cNvCxnSpPr/>
          <p:nvPr/>
        </p:nvCxnSpPr>
        <p:spPr>
          <a:xfrm flipH="1" flipV="1">
            <a:off x="5214240" y="5142960"/>
            <a:ext cx="143640" cy="857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0" name="Straight Arrow Connector 12"/>
          <p:cNvCxnSpPr/>
          <p:nvPr/>
        </p:nvCxnSpPr>
        <p:spPr>
          <a:xfrm flipH="1" flipV="1">
            <a:off x="5928480" y="4785840"/>
            <a:ext cx="500760" cy="1572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1" name="Straight Arrow Connector 14"/>
          <p:cNvCxnSpPr/>
          <p:nvPr/>
        </p:nvCxnSpPr>
        <p:spPr>
          <a:xfrm flipH="1" flipV="1">
            <a:off x="6285960" y="4214160"/>
            <a:ext cx="857880" cy="178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2" name="TextBox 16"/>
          <p:cNvSpPr/>
          <p:nvPr/>
        </p:nvSpPr>
        <p:spPr>
          <a:xfrm>
            <a:off x="4069440" y="60721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edulla oblong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7"/>
          <p:cNvSpPr/>
          <p:nvPr/>
        </p:nvSpPr>
        <p:spPr>
          <a:xfrm>
            <a:off x="6267600" y="62866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9"/>
          <p:cNvSpPr/>
          <p:nvPr/>
        </p:nvSpPr>
        <p:spPr>
          <a:xfrm>
            <a:off x="6643080" y="600084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esencepha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http://upload.wikimedia.org/wikipedia/commons/3/33/Human_brain_midsagittal_cut_description.JPG"/>
          <p:cNvPicPr/>
          <p:nvPr/>
        </p:nvPicPr>
        <p:blipFill>
          <a:blip r:embed="rId1"/>
          <a:srcRect l="5047" t="0" r="0" b="0"/>
          <a:stretch/>
        </p:blipFill>
        <p:spPr>
          <a:xfrm>
            <a:off x="4071960" y="1928880"/>
            <a:ext cx="5072040" cy="3703680"/>
          </a:xfrm>
          <a:prstGeom prst="rect">
            <a:avLst/>
          </a:prstGeom>
          <a:ln w="0">
            <a:noFill/>
          </a:ln>
        </p:spPr>
      </p:pic>
      <p:cxnSp>
        <p:nvCxnSpPr>
          <p:cNvPr id="136" name="Straight Arrow Connector 7"/>
          <p:cNvCxnSpPr/>
          <p:nvPr/>
        </p:nvCxnSpPr>
        <p:spPr>
          <a:xfrm flipH="1" flipV="1">
            <a:off x="5214240" y="5142960"/>
            <a:ext cx="143640" cy="857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7" name="Straight Arrow Connector 12"/>
          <p:cNvCxnSpPr/>
          <p:nvPr/>
        </p:nvCxnSpPr>
        <p:spPr>
          <a:xfrm flipH="1" flipV="1">
            <a:off x="5928480" y="4785840"/>
            <a:ext cx="500760" cy="1572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8" name="Straight Arrow Connector 14"/>
          <p:cNvCxnSpPr/>
          <p:nvPr/>
        </p:nvCxnSpPr>
        <p:spPr>
          <a:xfrm flipH="1" flipV="1">
            <a:off x="6285960" y="4214160"/>
            <a:ext cx="857880" cy="178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9" name="TextBox 16"/>
          <p:cNvSpPr/>
          <p:nvPr/>
        </p:nvSpPr>
        <p:spPr>
          <a:xfrm>
            <a:off x="4069440" y="60721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edulla oblong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7"/>
          <p:cNvSpPr/>
          <p:nvPr/>
        </p:nvSpPr>
        <p:spPr>
          <a:xfrm>
            <a:off x="6267600" y="62866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6643080" y="600084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esencepha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928440"/>
            <a:ext cx="419112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Садржи једра која су центри контроле аутономног нервног система, једра можданих живаца, релејна јед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Једра аутономног нервног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Кардиоваскуларни цент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Кардиоинхибиторни и кардиоексцитаторни центри који мењају фреквенцију и снагу срчане контра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Васкуларне центре који мењају тонус глатких мишића крвних суд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Респираторни цент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Примају информације из пон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Остали центри з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Повраћање, гутање, кашаљ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штуцање, киј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0" y="100008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nstantia"/>
              </a:rPr>
              <a:t>Medulla Oblong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0" y="10717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nstantia"/>
              </a:rPr>
              <a:t>Medulla Oblong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n2a5p1"/>
          <p:cNvPicPr/>
          <p:nvPr/>
        </p:nvPicPr>
        <p:blipFill>
          <a:blip r:embed="rId1"/>
          <a:srcRect l="4344" t="10866" r="4344" b="8699"/>
          <a:stretch/>
        </p:blipFill>
        <p:spPr>
          <a:xfrm>
            <a:off x="4983120" y="2143080"/>
            <a:ext cx="4160880" cy="36655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952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onstantia"/>
              </a:rPr>
              <a:t>Сензорна и моторна једра 5 кранијалних нерав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511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nstant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onstantia"/>
              </a:rPr>
              <a:t>N. vestibulocochlearis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r (8)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511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nstant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onstantia"/>
              </a:rPr>
              <a:t>N. glossopharyngeus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(9)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511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nstant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onstantia"/>
              </a:rPr>
              <a:t>N.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Vagus (10)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511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nstant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onstantia"/>
              </a:rPr>
              <a:t>N.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ccessor</a:t>
            </a:r>
            <a:r>
              <a:rPr b="0" lang="sr-Latn-CS" sz="1900" spc="-1" strike="noStrike">
                <a:solidFill>
                  <a:srgbClr val="000000"/>
                </a:solidFill>
                <a:latin typeface="Constantia"/>
              </a:rPr>
              <a:t>ius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(11)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511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nstant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onstantia"/>
              </a:rPr>
              <a:t>N.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Hypogloss</a:t>
            </a:r>
            <a:r>
              <a:rPr b="0" lang="sr-Latn-CS" sz="1900" spc="-1" strike="noStrike">
                <a:solidFill>
                  <a:srgbClr val="000000"/>
                </a:solidFill>
                <a:latin typeface="Constantia"/>
              </a:rPr>
              <a:t>us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(1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onstantia"/>
              </a:rPr>
              <a:t>Релејна јeдр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511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nstant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Nucleus gracilis </a:t>
            </a:r>
            <a:r>
              <a:rPr b="0" lang="sr-Latn-CS" sz="19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nucleus cuneatus </a:t>
            </a:r>
            <a:r>
              <a:rPr b="0" lang="sr-Latn-CS" sz="1900" spc="-1" strike="noStrike">
                <a:solidFill>
                  <a:srgbClr val="000000"/>
                </a:solidFill>
                <a:latin typeface="Constantia"/>
              </a:rPr>
              <a:t>преносе соматске сензитивне информације до таламус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511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nstant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onstantia"/>
              </a:rPr>
              <a:t>Оливарна једра преносе информације из кичмене мождине, великог мозга и можданог стабла до коре малог мозга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0" y="10717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nstantia"/>
              </a:rPr>
              <a:t>Medulla Oblong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n2a5p1"/>
          <p:cNvPicPr/>
          <p:nvPr/>
        </p:nvPicPr>
        <p:blipFill>
          <a:blip r:embed="rId1"/>
          <a:srcRect l="4344" t="10866" r="4344" b="8699"/>
          <a:stretch/>
        </p:blipFill>
        <p:spPr>
          <a:xfrm>
            <a:off x="4983120" y="2143080"/>
            <a:ext cx="4160880" cy="3665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571760"/>
            <a:ext cx="4857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ГРАНИЦЕ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на вентралној стра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доле: 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decussatio pyramid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горе: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sulcus bulbopontinu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на дорзалној стран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доле: место изласка Ц1 жив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горе: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striae medul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5455440" y="600084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cussatio pyramid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Straight Arrow Connector 9"/>
          <p:cNvCxnSpPr/>
          <p:nvPr/>
        </p:nvCxnSpPr>
        <p:spPr>
          <a:xfrm flipV="1">
            <a:off x="6072120" y="4142880"/>
            <a:ext cx="929520" cy="19296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sp>
        <p:nvSpPr>
          <p:cNvPr id="154" name="TextBox 12"/>
          <p:cNvSpPr/>
          <p:nvPr/>
        </p:nvSpPr>
        <p:spPr>
          <a:xfrm>
            <a:off x="5190840" y="17859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ulcus bulbopont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Straight Arrow Connector 13"/>
          <p:cNvCxnSpPr>
            <a:stCxn id="154" idx="2"/>
          </p:cNvCxnSpPr>
          <p:nvPr/>
        </p:nvCxnSpPr>
        <p:spPr>
          <a:xfrm>
            <a:off x="6450480" y="2155680"/>
            <a:ext cx="335880" cy="4168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0" y="10717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nstantia"/>
              </a:rPr>
              <a:t>Medulla Oblong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n2a5p1"/>
          <p:cNvPicPr/>
          <p:nvPr/>
        </p:nvPicPr>
        <p:blipFill>
          <a:blip r:embed="rId1"/>
          <a:srcRect l="4344" t="10866" r="4344" b="8699"/>
          <a:stretch/>
        </p:blipFill>
        <p:spPr>
          <a:xfrm>
            <a:off x="5143680" y="2143080"/>
            <a:ext cx="4000320" cy="35244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521496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ВЕНТРАЛНА СТРАНА: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sulcus 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ulbopontinus (излазе VI, VII, VIIbis и VII кранијални нер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fissura mediana a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- d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ecissatio pyramid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fibreae arcuatae externae ant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pyra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sulcus anterolateralis (излази XII кранијални нер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- ol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sulcus posterolateralis (излазе IX, X, и XI кранијални нер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Straight Arrow Connector 9"/>
          <p:cNvCxnSpPr/>
          <p:nvPr/>
        </p:nvCxnSpPr>
        <p:spPr>
          <a:xfrm>
            <a:off x="3285720" y="3214800"/>
            <a:ext cx="3786840" cy="64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161" name="Straight Arrow Connector 13"/>
          <p:cNvCxnSpPr/>
          <p:nvPr/>
        </p:nvCxnSpPr>
        <p:spPr>
          <a:xfrm>
            <a:off x="2785680" y="2142720"/>
            <a:ext cx="4143600" cy="5007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162" name="Straight Arrow Connector 14"/>
          <p:cNvCxnSpPr/>
          <p:nvPr/>
        </p:nvCxnSpPr>
        <p:spPr>
          <a:xfrm>
            <a:off x="3499920" y="2785680"/>
            <a:ext cx="3715560" cy="7866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rcRect l="8711" t="6260" r="38312" b="37549"/>
          <a:stretch/>
        </p:blipFill>
        <p:spPr>
          <a:xfrm>
            <a:off x="3976560" y="2071800"/>
            <a:ext cx="5167440" cy="41097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0" y="10717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nstantia"/>
              </a:rPr>
              <a:t>Medulla Oblong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785880"/>
            <a:ext cx="521496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ДОРЗАЛНА СТРАНА:</a:t>
            </a:r>
            <a:br>
              <a:rPr sz="2400"/>
            </a:b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2 ДЕ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- ГОРЊИ (fossa rhomboidea - pars bulbar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- sulcus medi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- sulcus limit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- fovea 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- еminentia medi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- trigonum nervi hypoglossi </a:t>
            </a:r>
            <a:br>
              <a:rPr sz="1800"/>
            </a:b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  (моторно једро  N. X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- trigonum nervi vagi </a:t>
            </a:r>
            <a:br>
              <a:rPr sz="1800"/>
            </a:b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  (PSY једро N.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- area postr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ДОЊИ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 – pedunculli cerebellares inferi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- sulcus medianus pos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uberculum grac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- t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uberculum cunea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- t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ubercilum trigem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nstantia"/>
              </a:rPr>
              <a:t>P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4572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У преводу 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“мос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Налази се између продужене мождине и средњег мозга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Садржи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Сензорна и моторна једра 4 кранијална живца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N. trigeminus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5), 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N. abducens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6), 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N. f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cial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is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7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i N. Vestibulocochlearisa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Респираторна једра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Респираторне центре који са центрима у продуженој мождини регулишу ритам дис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Једра и путеве који обрађују и преносе информације у и из малог моз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Усходне и нисходне путеве који повезују друге делове ЦНС-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sol00671"/>
          <p:cNvPicPr/>
          <p:nvPr/>
        </p:nvPicPr>
        <p:blipFill>
          <a:blip r:embed="rId1"/>
          <a:srcRect l="3127" t="0" r="3127" b="5299"/>
          <a:stretch/>
        </p:blipFill>
        <p:spPr>
          <a:xfrm>
            <a:off x="5286240" y="1071720"/>
            <a:ext cx="3143520" cy="2357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pons"/>
          <p:cNvPicPr/>
          <p:nvPr/>
        </p:nvPicPr>
        <p:blipFill>
          <a:blip r:embed="rId2"/>
          <a:stretch/>
        </p:blipFill>
        <p:spPr>
          <a:xfrm>
            <a:off x="5029200" y="3546360"/>
            <a:ext cx="35812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Vista</cp:lastModifiedBy>
  <dcterms:modified xsi:type="dcterms:W3CDTF">2014-10-05T19:48:37Z</dcterms:modified>
  <cp:revision>1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85</vt:lpwstr>
  </property>
</Properties>
</file>